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E776-19C6-45B3-BB4D-B89046FE2F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C126-9EA0-433A-B869-54534FDF1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920-1B86-4DD2-A234-4DA454F6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3CA-AA15-448D-9D06-95C0E319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FBC-477B-4F7A-B65C-0E2556F3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036-DEB0-412D-8083-37081F36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913-501F-45BC-AF26-BC20E4B2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0CF-DDA6-4039-8B2A-76BE4ED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5E98-32B3-4DC2-8BC7-6CE92629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92A7-A7B5-4425-8DA9-D6A0400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189-7A0B-4B4C-A053-F339D64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F29E-83C9-4BAD-B075-2C9E630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3634-BD57-4643-8052-93EA8CB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1AB-DF79-49FB-A67C-196927E3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DCBE-9234-4331-981A-736689D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5E11-CE2F-4B33-AAFC-BDF8F1E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302-D78C-4ABD-BF4A-FF37C6BB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E62D-B59F-4DB7-86D9-B4B6F14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6370-292C-4E0E-950D-BEC24FB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ADAA-0FD9-4771-ACF3-F7B486EF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AB12-6FE9-4A99-A3DA-364443F5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11FF-598E-4D9B-9B7D-BA590360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49CF-5EA8-4E13-A890-7C867C34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2451-74BA-4506-9525-53C9887D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9BF-245C-4A24-AA18-A129F6F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B034-E13E-42C9-8C99-EF40C28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0A5A-61E6-4B99-8361-61C9B90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EBE3-B7A5-4BD2-9E92-710091D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0C02-7A16-4146-A9D9-F7F4244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21C8-239A-4C6C-922C-2DDAD26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7733-5A4E-4479-9B8F-AF3F7BDA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5B66-2A4E-41AF-BADC-7F9D1075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A49-F75A-4244-80DD-54161A88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0F7-C8CC-48B2-B1B1-D638D19A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D9E-82E8-4C67-AB0F-9B1B682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6C6-51E7-4E72-8ACD-72447E6B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16F-7C40-42CA-8370-3BA65FBC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112-E17F-489E-A80D-831A33C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E89-1C79-469D-9A63-278563686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94B-22C4-4E9A-82C4-757393390BB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7CEC-6DC3-46BB-8DCB-FAB92729321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340280" y="2126160"/>
            <a:ext cx="651636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Природные зоны Рос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857840" y="4285800"/>
            <a:ext cx="401328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География 8 кла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500720" y="5286240"/>
            <a:ext cx="487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Составитель: ученица 8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Калиниченко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Консультант: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2a56"/>
                </a:solidFill>
                <a:latin typeface="Arial"/>
              </a:rPr>
              <a:t>Изосимова И.Д</a:t>
            </a:r>
            <a:r>
              <a:rPr b="1" lang="ru-RU" sz="1800" spc="-1" strike="noStrike">
                <a:solidFill>
                  <a:srgbClr val="002a5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C:\Documents and Settings\Дима\Рабочий стол\2180021.jpg"/>
          <p:cNvPicPr/>
          <p:nvPr/>
        </p:nvPicPr>
        <p:blipFill>
          <a:blip r:embed="rId2"/>
          <a:stretch/>
        </p:blipFill>
        <p:spPr>
          <a:xfrm>
            <a:off x="353880" y="3067200"/>
            <a:ext cx="2651400" cy="3535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Дима\Рабочий стол\30.jpg"/>
          <p:cNvPicPr/>
          <p:nvPr/>
        </p:nvPicPr>
        <p:blipFill>
          <a:blip r:embed="rId3"/>
          <a:stretch/>
        </p:blipFill>
        <p:spPr>
          <a:xfrm>
            <a:off x="4705200" y="-648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Дима\Рабочий стол\Новая папка\Новая папка\0_2be0_d2fb545b_XL.jpg"/>
          <p:cNvPicPr/>
          <p:nvPr/>
        </p:nvPicPr>
        <p:blipFill>
          <a:blip r:embed="rId4"/>
          <a:stretch/>
        </p:blipFill>
        <p:spPr>
          <a:xfrm>
            <a:off x="6924600" y="2639880"/>
            <a:ext cx="1792440" cy="1597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 flipV="1" rot="10800000">
            <a:off x="428760" y="599976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дные зоны отражают широтную з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C:\Documents and Settings\Дима\Рабочий стол\Рисунок2.jpg"/>
          <p:cNvPicPr/>
          <p:nvPr/>
        </p:nvPicPr>
        <p:blipFill>
          <a:blip r:embed="rId1"/>
          <a:stretch/>
        </p:blipFill>
        <p:spPr>
          <a:xfrm>
            <a:off x="214200" y="428760"/>
            <a:ext cx="8675640" cy="53625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3" descr="C:\Documents and Settings\Дима\Рабочий стол\Природа\Новая папка (3)\Морошка.jpg"/>
          <p:cNvPicPr/>
          <p:nvPr/>
        </p:nvPicPr>
        <p:blipFill>
          <a:blip r:embed="rId1"/>
          <a:stretch/>
        </p:blipFill>
        <p:spPr>
          <a:xfrm>
            <a:off x="7215120" y="5286240"/>
            <a:ext cx="1600200" cy="1357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3"/>
          <p:cNvSpPr/>
          <p:nvPr/>
        </p:nvSpPr>
        <p:spPr>
          <a:xfrm>
            <a:off x="6929280" y="5129280"/>
            <a:ext cx="2214720" cy="16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Самая редкая и особенная ягода-хамелеон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2" descr="C:\Documents and Settings\Дима\Рабочий стол\Природа\Новая папка (3)\лесостепь.jpg"/>
          <p:cNvPicPr/>
          <p:nvPr/>
        </p:nvPicPr>
        <p:blipFill>
          <a:blip r:embed="rId2"/>
          <a:srcRect l="0" t="0" r="36724" b="0"/>
          <a:stretch/>
        </p:blipFill>
        <p:spPr>
          <a:xfrm>
            <a:off x="5000760" y="5286240"/>
            <a:ext cx="1643040" cy="13575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3"/>
          <p:cNvSpPr/>
          <p:nvPr/>
        </p:nvSpPr>
        <p:spPr>
          <a:xfrm>
            <a:off x="4643280" y="5129280"/>
            <a:ext cx="2214720" cy="16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риродная зона, которая является переходной полосой между лесом и степью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C:\Documents and Settings\Дима\Рабочий стол\Природа\Новая папка (3)\ph_teu.jpg"/>
          <p:cNvPicPr/>
          <p:nvPr/>
        </p:nvPicPr>
        <p:blipFill>
          <a:blip r:embed="rId3"/>
          <a:stretch/>
        </p:blipFill>
        <p:spPr>
          <a:xfrm>
            <a:off x="2571840" y="5286240"/>
            <a:ext cx="1677960" cy="1357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3"/>
          <p:cNvSpPr/>
          <p:nvPr/>
        </p:nvSpPr>
        <p:spPr>
          <a:xfrm>
            <a:off x="2286000" y="5129280"/>
            <a:ext cx="2214720" cy="173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тица подсемейства тетеревин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C:\Documents and Settings\Дима\Рабочий стол\Природа\Новая папка (3)\0616165d8efc.jpg"/>
          <p:cNvPicPr/>
          <p:nvPr/>
        </p:nvPicPr>
        <p:blipFill>
          <a:blip r:embed="rId4"/>
          <a:stretch/>
        </p:blipFill>
        <p:spPr>
          <a:xfrm>
            <a:off x="285840" y="5286240"/>
            <a:ext cx="1571400" cy="1357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3"/>
          <p:cNvSpPr/>
          <p:nvPr/>
        </p:nvSpPr>
        <p:spPr>
          <a:xfrm>
            <a:off x="0" y="5110200"/>
            <a:ext cx="2214720" cy="175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рызун степи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C:\Documents and Settings\Дима\Рабочий стол\Природа\Новая папка (3)\28337675_Komsomolsk_na_amure.jpg"/>
          <p:cNvPicPr/>
          <p:nvPr/>
        </p:nvPicPr>
        <p:blipFill>
          <a:blip r:embed="rId5"/>
          <a:srcRect l="0" t="10983" r="8112" b="36702"/>
          <a:stretch/>
        </p:blipFill>
        <p:spPr>
          <a:xfrm>
            <a:off x="7143840" y="3571920"/>
            <a:ext cx="1643040" cy="1403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3"/>
          <p:cNvSpPr/>
          <p:nvPr/>
        </p:nvSpPr>
        <p:spPr>
          <a:xfrm>
            <a:off x="692928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лекопит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щий из семейства парнок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"/>
          <p:cNvPicPr/>
          <p:nvPr/>
        </p:nvPicPr>
        <p:blipFill>
          <a:blip r:embed="rId6"/>
          <a:stretch/>
        </p:blipFill>
        <p:spPr>
          <a:xfrm>
            <a:off x="4929120" y="3500280"/>
            <a:ext cx="1625760" cy="1357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3"/>
          <p:cNvSpPr/>
          <p:nvPr/>
        </p:nvSpPr>
        <p:spPr>
          <a:xfrm>
            <a:off x="464328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ва зоны смешанных и широко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ных лес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8" descr="C:\Documents and Settings\Дима\Рабочий стол\Природа\Новая папка (3)\b5abe44d58755179b7dde0f422997dc1.jpg"/>
          <p:cNvPicPr/>
          <p:nvPr/>
        </p:nvPicPr>
        <p:blipFill>
          <a:blip r:embed="rId7"/>
          <a:stretch/>
        </p:blipFill>
        <p:spPr>
          <a:xfrm>
            <a:off x="2571840" y="3643200"/>
            <a:ext cx="1571400" cy="1270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3"/>
          <p:cNvSpPr/>
          <p:nvPr/>
        </p:nvSpPr>
        <p:spPr>
          <a:xfrm>
            <a:off x="2286000" y="3429000"/>
            <a:ext cx="2214720" cy="16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риродная зона расположенная на Русской равнине южнее тайги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3" descr=""/>
          <p:cNvPicPr/>
          <p:nvPr/>
        </p:nvPicPr>
        <p:blipFill>
          <a:blip r:embed="rId8"/>
          <a:stretch/>
        </p:blipFill>
        <p:spPr>
          <a:xfrm>
            <a:off x="285840" y="3571920"/>
            <a:ext cx="1500120" cy="13572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3"/>
          <p:cNvSpPr/>
          <p:nvPr/>
        </p:nvSpPr>
        <p:spPr>
          <a:xfrm>
            <a:off x="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п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7" descr="C:\Documents and Settings\Дима\Рабочий стол\Природа\Новая папка (3)\пустыни.jpg"/>
          <p:cNvPicPr/>
          <p:nvPr/>
        </p:nvPicPr>
        <p:blipFill>
          <a:blip r:embed="rId9"/>
          <a:stretch/>
        </p:blipFill>
        <p:spPr>
          <a:xfrm>
            <a:off x="7215120" y="1857240"/>
            <a:ext cx="157176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5"/>
          <p:cNvSpPr/>
          <p:nvPr/>
        </p:nvSpPr>
        <p:spPr>
          <a:xfrm>
            <a:off x="692928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большая природная зона в Прикаспии в Восточном Предкавказ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1" descr="C:\Documents and Settings\Дима\Рабочий стол\Природа\Новая папка (3)\39425892_.jpg"/>
          <p:cNvPicPr/>
          <p:nvPr/>
        </p:nvPicPr>
        <p:blipFill>
          <a:blip r:embed="rId10"/>
          <a:stretch/>
        </p:blipFill>
        <p:spPr>
          <a:xfrm>
            <a:off x="4929120" y="1857240"/>
            <a:ext cx="1571760" cy="128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9"/>
          <p:cNvSpPr/>
          <p:nvPr/>
        </p:nvSpPr>
        <p:spPr>
          <a:xfrm>
            <a:off x="464328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зкорослый ягодный кустарник с красными ягод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0" descr="C:\Documents and Settings\Дима\Рабочий стол\amur_tiger_600.jpg"/>
          <p:cNvPicPr/>
          <p:nvPr/>
        </p:nvPicPr>
        <p:blipFill>
          <a:blip r:embed="rId11"/>
          <a:srcRect l="0" t="0" r="8701" b="0"/>
          <a:stretch/>
        </p:blipFill>
        <p:spPr>
          <a:xfrm>
            <a:off x="2643120" y="1857240"/>
            <a:ext cx="1500120" cy="1285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8"/>
          <p:cNvSpPr/>
          <p:nvPr/>
        </p:nvSpPr>
        <p:spPr>
          <a:xfrm>
            <a:off x="228600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арственное животное, обитающее в Уссурийской тайг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9" descr="C:\Documents and Settings\Дима\Рабочий стол\Природа\Новая папка (3)\14333171.jpg"/>
          <p:cNvPicPr/>
          <p:nvPr/>
        </p:nvPicPr>
        <p:blipFill>
          <a:blip r:embed="rId12"/>
          <a:srcRect l="0" t="0" r="37777" b="0"/>
          <a:stretch/>
        </p:blipFill>
        <p:spPr>
          <a:xfrm>
            <a:off x="357120" y="185724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3"/>
          <p:cNvSpPr/>
          <p:nvPr/>
        </p:nvSpPr>
        <p:spPr>
          <a:xfrm>
            <a:off x="0" y="1714680"/>
            <a:ext cx="2214720" cy="15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родная зона, невелика по площади и занимает юг европейской части страны и Западной Сибир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8" descr="C:\Documents and Settings\Дима\Рабочий стол\Природа\Новая папка (3)\1203617768_28.jpg"/>
          <p:cNvPicPr/>
          <p:nvPr/>
        </p:nvPicPr>
        <p:blipFill>
          <a:blip r:embed="rId13"/>
          <a:stretch/>
        </p:blipFill>
        <p:spPr>
          <a:xfrm>
            <a:off x="7215120" y="214200"/>
            <a:ext cx="1500120" cy="1214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2"/>
          <p:cNvSpPr/>
          <p:nvPr/>
        </p:nvSpPr>
        <p:spPr>
          <a:xfrm>
            <a:off x="6929280" y="0"/>
            <a:ext cx="2214720" cy="16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Млекопитающие, представители отряда грызунов, семейства беличьи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7" descr="C:\Documents and Settings\Дима\Рабочий стол\Природа\Новая папка (3)\5792.jpg"/>
          <p:cNvPicPr/>
          <p:nvPr/>
        </p:nvPicPr>
        <p:blipFill>
          <a:blip r:embed="rId14"/>
          <a:stretch/>
        </p:blipFill>
        <p:spPr>
          <a:xfrm>
            <a:off x="5072040" y="214200"/>
            <a:ext cx="1501920" cy="1228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1"/>
          <p:cNvSpPr/>
          <p:nvPr/>
        </p:nvSpPr>
        <p:spPr>
          <a:xfrm>
            <a:off x="4643280" y="0"/>
            <a:ext cx="2214720" cy="16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Хвойное дерево, с темно-зелеными, жесткими, короткими хвоинками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6" descr="C:\Documents and Settings\Дима\Рабочий стол\Природа\Новая папка (3)\Тундра.jpg"/>
          <p:cNvPicPr/>
          <p:nvPr/>
        </p:nvPicPr>
        <p:blipFill>
          <a:blip r:embed="rId15"/>
          <a:srcRect l="8553" t="13343" r="17143" b="0"/>
          <a:stretch/>
        </p:blipFill>
        <p:spPr>
          <a:xfrm>
            <a:off x="2643120" y="21420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2286000" y="0"/>
            <a:ext cx="2214720" cy="164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риродн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зона, расположенная вблиз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Северного полярного круг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5" descr="C:\Documents and Settings\Дима\Рабочий стол\Природа\Новая папка (3)\тюлень.jpg"/>
          <p:cNvPicPr/>
          <p:nvPr/>
        </p:nvPicPr>
        <p:blipFill>
          <a:blip r:embed="rId16"/>
          <a:stretch/>
        </p:blipFill>
        <p:spPr>
          <a:xfrm>
            <a:off x="357120" y="214200"/>
            <a:ext cx="150012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0" y="0"/>
            <a:ext cx="2214720" cy="115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дставитель ластоногих, живущий на холодной земле и бесконечных льдин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Арктик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435000" y="43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186 L 0.37899 0.36897 E">
                                      <p:cBhvr>
                                        <p:cTn id="5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39861 0.36458 E">
                                      <p:cBhvr>
                                        <p:cTn id="6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58000" y="458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1375 0.38218 E">
                                      <p:cBhvr>
                                        <p:cTn id="7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13698 0.36458 E">
                                      <p:cBhvr>
                                        <p:cTn id="8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75000" y="47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-0.12084 0.39329 E">
                                      <p:cBhvr>
                                        <p:cTn id="10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-0.13282 0.36458 E">
                                      <p:cBhvr>
                                        <p:cTn id="11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470000" y="47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-0.37084 0.38218 E">
                                      <p:cBhvr>
                                        <p:cTn id="13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-0.3724 0.37986 E">
                                      <p:cBhvr>
                                        <p:cTn id="14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37917 0.12662 E">
                                      <p:cBhvr>
                                        <p:cTn id="15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0.3908 0.125 E">
                                      <p:cBhvr>
                                        <p:cTn id="17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12917 0.13773 E">
                                      <p:cBhvr>
                                        <p:cTn id="18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14062 0.14074 E">
                                      <p:cBhvr>
                                        <p:cTn id="19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0296E-006 L -0.12917 0.13691 E">
                                      <p:cBhvr>
                                        <p:cTn id="21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33333E-006 L -0.125 0.125 E">
                                      <p:cBhvr>
                                        <p:cTn id="22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37917 0.13645 E">
                                      <p:cBhvr>
                                        <p:cTn id="24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33333E-006 L -0.375 0.11875 E">
                                      <p:cBhvr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0.39062 -0.14004 E">
                                      <p:cBhvr>
                                        <p:cTn id="2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38681 -0.1301 E">
                                      <p:cBhvr>
                                        <p:cTn id="27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0.13281 -0.1294 E">
                                      <p:cBhvr>
                                        <p:cTn id="29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0.14062 -0.13426 E">
                                      <p:cBhvr>
                                        <p:cTn id="3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12882 -0.13102 E">
                                      <p:cBhvr>
                                        <p:cTn id="32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0.12014 -0.11968 E">
                                      <p:cBhvr>
                                        <p:cTn id="33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37882 -0.13102 E">
                                      <p:cBhvr>
                                        <p:cTn id="34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-0.37101 -0.13357 E">
                                      <p:cBhvr>
                                        <p:cTn id="35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3868 -0.38426 E">
                                      <p:cBhvr>
                                        <p:cTn id="37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9062 -0.3801 E">
                                      <p:cBhvr>
                                        <p:cTn id="38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2899 -0.3949 E">
                                      <p:cBhvr>
                                        <p:cTn id="40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12708 -0.3801 E">
                                      <p:cBhvr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11302 -0.38426 E">
                                      <p:cBhvr>
                                        <p:cTn id="42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0.13663 -0.3801 E">
                                      <p:cBhvr>
                                        <p:cTn id="44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37882 -0.3949 E">
                                      <p:cBhvr>
                                        <p:cTn id="45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0.36875 -0.36968 E">
                                      <p:cBhvr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5" descr="C:\Documents and Settings\Дима\Рабочий стол\я.jpg"/>
          <p:cNvPicPr/>
          <p:nvPr/>
        </p:nvPicPr>
        <p:blipFill>
          <a:blip r:embed="rId1"/>
          <a:stretch/>
        </p:blipFill>
        <p:spPr>
          <a:xfrm>
            <a:off x="285840" y="5286240"/>
            <a:ext cx="1571400" cy="1366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3"/>
          <p:cNvSpPr/>
          <p:nvPr/>
        </p:nvSpPr>
        <p:spPr>
          <a:xfrm>
            <a:off x="0" y="5129280"/>
            <a:ext cx="2214720" cy="16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Лиственное дерево, называемое символом Росси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4" descr="C:\Documents and Settings\Дима\Рабочий стол\я.jpg"/>
          <p:cNvPicPr/>
          <p:nvPr/>
        </p:nvPicPr>
        <p:blipFill>
          <a:blip r:embed="rId2"/>
          <a:stretch/>
        </p:blipFill>
        <p:spPr>
          <a:xfrm>
            <a:off x="7358040" y="5286240"/>
            <a:ext cx="1577880" cy="13366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3"/>
          <p:cNvSpPr/>
          <p:nvPr/>
        </p:nvSpPr>
        <p:spPr>
          <a:xfrm>
            <a:off x="6929280" y="5129280"/>
            <a:ext cx="2214720" cy="138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ид многолетних низкорослых кустарничков из семейства Вересковы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5" descr="C:\Documents and Settings\Дима\Рабочий стол\Природа\Новая папка (3)\полупустыни2.jpg"/>
          <p:cNvPicPr/>
          <p:nvPr/>
        </p:nvPicPr>
        <p:blipFill>
          <a:blip r:embed="rId3"/>
          <a:srcRect l="0" t="17065" r="28142" b="0"/>
          <a:stretch/>
        </p:blipFill>
        <p:spPr>
          <a:xfrm>
            <a:off x="4929120" y="5286240"/>
            <a:ext cx="1571760" cy="13575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3"/>
          <p:cNvSpPr/>
          <p:nvPr/>
        </p:nvSpPr>
        <p:spPr>
          <a:xfrm>
            <a:off x="4643280" y="5129280"/>
            <a:ext cx="2214720" cy="173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родная зона характерна  резко континен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ым клима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3" descr="C:\Documents and Settings\Дима\Рабочий стол\Природа\Новая папка (3)\mus014.jpg"/>
          <p:cNvPicPr/>
          <p:nvPr/>
        </p:nvPicPr>
        <p:blipFill>
          <a:blip r:embed="rId4"/>
          <a:srcRect l="0" t="0" r="29321" b="0"/>
          <a:stretch/>
        </p:blipFill>
        <p:spPr>
          <a:xfrm>
            <a:off x="2714760" y="5214960"/>
            <a:ext cx="1500120" cy="1386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3"/>
          <p:cNvSpPr/>
          <p:nvPr/>
        </p:nvSpPr>
        <p:spPr>
          <a:xfrm>
            <a:off x="2286000" y="5129280"/>
            <a:ext cx="2214720" cy="170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Нелюбимый зверь тайг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3" descr=""/>
          <p:cNvPicPr/>
          <p:nvPr/>
        </p:nvPicPr>
        <p:blipFill>
          <a:blip r:embed="rId5"/>
          <a:srcRect l="0" t="3263" r="3123" b="0"/>
          <a:stretch/>
        </p:blipFill>
        <p:spPr>
          <a:xfrm>
            <a:off x="7286760" y="3571920"/>
            <a:ext cx="1573200" cy="13780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3"/>
          <p:cNvSpPr/>
          <p:nvPr/>
        </p:nvSpPr>
        <p:spPr>
          <a:xfrm>
            <a:off x="692928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едней тай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9" descr="C:\Documents and Settings\Дима\Рабочий стол\Природа\Новая папка (3)\044_4.jpg"/>
          <p:cNvPicPr/>
          <p:nvPr/>
        </p:nvPicPr>
        <p:blipFill>
          <a:blip r:embed="rId6"/>
          <a:srcRect l="0" t="2787" r="4724" b="0"/>
          <a:stretch/>
        </p:blipFill>
        <p:spPr>
          <a:xfrm>
            <a:off x="5000760" y="3571920"/>
            <a:ext cx="1547640" cy="13572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3"/>
          <p:cNvSpPr/>
          <p:nvPr/>
        </p:nvSpPr>
        <p:spPr>
          <a:xfrm>
            <a:off x="4643280" y="3429000"/>
            <a:ext cx="2214720" cy="155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ая распространенная водоплавающая пт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сс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4" descr="C:\Documents and Settings\Дима\Рабочий стол\Природа\Новая папка (3)\лесотундра.jpg"/>
          <p:cNvPicPr/>
          <p:nvPr/>
        </p:nvPicPr>
        <p:blipFill>
          <a:blip r:embed="rId7"/>
          <a:srcRect l="0" t="0" r="16677" b="0"/>
          <a:stretch/>
        </p:blipFill>
        <p:spPr>
          <a:xfrm>
            <a:off x="2571840" y="3571920"/>
            <a:ext cx="1643040" cy="1343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3"/>
          <p:cNvSpPr/>
          <p:nvPr/>
        </p:nvSpPr>
        <p:spPr>
          <a:xfrm>
            <a:off x="228600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ходная при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 от тундры к тайг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2" descr=""/>
          <p:cNvPicPr/>
          <p:nvPr/>
        </p:nvPicPr>
        <p:blipFill>
          <a:blip r:embed="rId8"/>
          <a:srcRect l="0" t="5269" r="4339" b="0"/>
          <a:stretch/>
        </p:blipFill>
        <p:spPr>
          <a:xfrm>
            <a:off x="285840" y="3571920"/>
            <a:ext cx="1571400" cy="1407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3"/>
          <p:cNvSpPr/>
          <p:nvPr/>
        </p:nvSpPr>
        <p:spPr>
          <a:xfrm>
            <a:off x="0" y="342900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ва полупусты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3" descr="C:\Documents and Settings\Дима\Рабочий стол\Природа\Новая папка (3)\Белач сова.jpg"/>
          <p:cNvPicPr/>
          <p:nvPr/>
        </p:nvPicPr>
        <p:blipFill>
          <a:blip r:embed="rId9"/>
          <a:srcRect l="0" t="0" r="27170" b="0"/>
          <a:stretch/>
        </p:blipFill>
        <p:spPr>
          <a:xfrm>
            <a:off x="7286760" y="1857240"/>
            <a:ext cx="1500120" cy="13575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8"/>
          <p:cNvSpPr/>
          <p:nvPr/>
        </p:nvSpPr>
        <p:spPr>
          <a:xfrm>
            <a:off x="692928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ищник, тунд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7" descr="C:\Documents and Settings\Дима\Рабочий стол\Природа\Новая папка (3)\0_3b823_b72bd4a0_XL.jpg"/>
          <p:cNvPicPr/>
          <p:nvPr/>
        </p:nvPicPr>
        <p:blipFill>
          <a:blip r:embed="rId10"/>
          <a:srcRect l="0" t="0" r="27565" b="5272"/>
          <a:stretch/>
        </p:blipFill>
        <p:spPr>
          <a:xfrm>
            <a:off x="5000760" y="1857240"/>
            <a:ext cx="1500120" cy="12859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8"/>
          <p:cNvSpPr/>
          <p:nvPr/>
        </p:nvSpPr>
        <p:spPr>
          <a:xfrm>
            <a:off x="464328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ый распространенный зверек тай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5" descr=""/>
          <p:cNvPicPr/>
          <p:nvPr/>
        </p:nvPicPr>
        <p:blipFill>
          <a:blip r:embed="rId11"/>
          <a:srcRect l="0" t="5255" r="1855" b="3946"/>
          <a:stretch/>
        </p:blipFill>
        <p:spPr>
          <a:xfrm>
            <a:off x="2643120" y="1857240"/>
            <a:ext cx="1677960" cy="1403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8"/>
          <p:cNvSpPr/>
          <p:nvPr/>
        </p:nvSpPr>
        <p:spPr>
          <a:xfrm>
            <a:off x="2286000" y="171468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ая плодородная поч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6" descr="C:\Documents and Settings\Дима\Рабочий стол\Природа\Новая папка (3)\0_2be0_d2fb545b_XL.jpg"/>
          <p:cNvPicPr/>
          <p:nvPr/>
        </p:nvPicPr>
        <p:blipFill>
          <a:blip r:embed="rId12"/>
          <a:srcRect l="0" t="19370" r="26146" b="0"/>
          <a:stretch/>
        </p:blipFill>
        <p:spPr>
          <a:xfrm>
            <a:off x="285840" y="1928880"/>
            <a:ext cx="1488960" cy="1285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8"/>
          <p:cNvSpPr/>
          <p:nvPr/>
        </p:nvSpPr>
        <p:spPr>
          <a:xfrm>
            <a:off x="0" y="1714680"/>
            <a:ext cx="2214720" cy="155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д многолетних  травянистых растений семейства Розовы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1" descr="C:\Documents and Settings\Дима\Рабочий стол\Природа\Новая папка (3)\e46b14c09793.jpg"/>
          <p:cNvPicPr/>
          <p:nvPr/>
        </p:nvPicPr>
        <p:blipFill>
          <a:blip r:embed="rId13"/>
          <a:srcRect l="0" t="0" r="34379" b="0"/>
          <a:stretch/>
        </p:blipFill>
        <p:spPr>
          <a:xfrm>
            <a:off x="7215120" y="214200"/>
            <a:ext cx="1494000" cy="1285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1"/>
          <p:cNvSpPr/>
          <p:nvPr/>
        </p:nvSpPr>
        <p:spPr>
          <a:xfrm>
            <a:off x="6929280" y="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ая большая по площади приро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4" descr=""/>
          <p:cNvPicPr/>
          <p:nvPr/>
        </p:nvPicPr>
        <p:blipFill>
          <a:blip r:embed="rId14"/>
          <a:srcRect l="0" t="5004" r="0" b="0"/>
          <a:stretch/>
        </p:blipFill>
        <p:spPr>
          <a:xfrm>
            <a:off x="4929120" y="214200"/>
            <a:ext cx="1500120" cy="1285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1"/>
          <p:cNvSpPr/>
          <p:nvPr/>
        </p:nvSpPr>
        <p:spPr>
          <a:xfrm>
            <a:off x="4643280" y="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чва, у которой маломощный плодородный сл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8" descr="C:\Documents and Settings\Дима\Рабочий стол\Природа\Новая папка (3)\4c7b8d9d33e3.jpg"/>
          <p:cNvPicPr/>
          <p:nvPr/>
        </p:nvPicPr>
        <p:blipFill>
          <a:blip r:embed="rId15"/>
          <a:srcRect l="0" t="0" r="14429" b="0"/>
          <a:stretch/>
        </p:blipFill>
        <p:spPr>
          <a:xfrm>
            <a:off x="2571840" y="214200"/>
            <a:ext cx="1500120" cy="12859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1"/>
          <p:cNvSpPr/>
          <p:nvPr/>
        </p:nvSpPr>
        <p:spPr>
          <a:xfrm>
            <a:off x="2286000" y="0"/>
            <a:ext cx="2214720" cy="161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жая хищница тай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C:\Documents and Settings\Дима\Рабочий стол\Природа\Новая папка (3)\Арктика.jpg"/>
          <p:cNvPicPr/>
          <p:nvPr/>
        </p:nvPicPr>
        <p:blipFill>
          <a:blip r:embed="rId16"/>
          <a:srcRect l="0" t="25886" r="34988" b="0"/>
          <a:stretch/>
        </p:blipFill>
        <p:spPr>
          <a:xfrm>
            <a:off x="285840" y="214200"/>
            <a:ext cx="1501560" cy="1357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0" y="0"/>
            <a:ext cx="2214720" cy="15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родная зона, расположенная на островах Северного Ледовитого океана и на крайнем севере полу-ова Таймы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3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35000" y="435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185 L 0.37899 0.36898 E">
                                      <p:cBhvr>
                                        <p:cTn id="48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232 L 0.37951 0.35116 E">
                                      <p:cBhvr>
                                        <p:cTn id="49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475000" y="475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12118 0.35834 E">
                                      <p:cBhvr>
                                        <p:cTn id="51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1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29 0.36458 E">
                                      <p:cBhvr>
                                        <p:cTn id="523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475000" y="47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L -0.13715 0.3794 E">
                                      <p:cBhvr>
                                        <p:cTn id="53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-0.12882 0.35394 E">
                                      <p:cBhvr>
                                        <p:cTn id="55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4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460000" y="46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37882 0.3706 E">
                                      <p:cBhvr>
                                        <p:cTn id="56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 L -0.37847 0.35394 E">
                                      <p:cBhvr>
                                        <p:cTn id="577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7899 0.10996 E">
                                      <p:cBhvr>
                                        <p:cTn id="5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55112E-017 L 0.38733 0.09352 E">
                                      <p:cBhvr>
                                        <p:cTn id="60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12118 0.1206 E">
                                      <p:cBhvr>
                                        <p:cTn id="62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11667 0.10926 E">
                                      <p:cBhvr>
                                        <p:cTn id="631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13663 0.10996 E">
                                      <p:cBhvr>
                                        <p:cTn id="64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6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-0.13663 0.11436 E">
                                      <p:cBhvr>
                                        <p:cTn id="65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2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37882 0.10996 E">
                                      <p:cBhvr>
                                        <p:cTn id="67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38663 0.10926 E">
                                      <p:cBhvr>
                                        <p:cTn id="68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0.39062 -0.14004 E">
                                      <p:cBhvr>
                                        <p:cTn id="701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0.37118 -0.14444 E">
                                      <p:cBhvr>
                                        <p:cTn id="71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12899 -0.14166 E">
                                      <p:cBhvr>
                                        <p:cTn id="72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022E-016 L 0.12899 -0.15023 E">
                                      <p:cBhvr>
                                        <p:cTn id="73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12882 -0.13102 E">
                                      <p:cBhvr>
                                        <p:cTn id="75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0.13923 -0.14074 E">
                                      <p:cBhvr>
                                        <p:cTn id="76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85185E-006 L -0.37882 -0.14166 E">
                                      <p:cBhvr>
                                        <p:cTn id="78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3.7037E-006 L -0.38281 -0.14236 E">
                                      <p:cBhvr>
                                        <p:cTn id="79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7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3868 -0.38426 E">
                                      <p:cBhvr>
                                        <p:cTn id="80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0.375 -0.39143 E">
                                      <p:cBhvr>
                                        <p:cTn id="82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4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2899 -0.3949 E">
                                      <p:cBhvr>
                                        <p:cTn id="83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5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11337 -0.3824 E">
                                      <p:cBhvr>
                                        <p:cTn id="84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1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12882 -0.3949 E">
                                      <p:cBhvr>
                                        <p:cTn id="863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-0.13281 -0.40116 E">
                                      <p:cBhvr>
                                        <p:cTn id="87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8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37882 -0.3949 E">
                                      <p:cBhvr>
                                        <p:cTn id="89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9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-0.39878 -0.38935 E">
                                      <p:cBhvr>
                                        <p:cTn id="90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0:23:44Z</dcterms:created>
  <dc:creator>User</dc:creator>
  <dc:description/>
  <dc:language>en-US</dc:language>
  <cp:lastModifiedBy>Uchenik</cp:lastModifiedBy>
  <dcterms:modified xsi:type="dcterms:W3CDTF">2009-12-30T06:49:15Z</dcterms:modified>
  <cp:revision>452</cp:revision>
  <dc:subject/>
  <dc:title>Природные зоны России</dc:title>
</cp:coreProperties>
</file>